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F0FB-54D7-499E-9011-A3FC85E7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2518-81A8-4C97-B022-2871C4D5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0CF4-E5EB-42F8-B55F-99960AFD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B14D-BCF9-47A3-A8E5-3B2C2E1F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0132-AE4A-4839-97E8-5E5245CB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FB6E-BF88-4148-8DC2-A6630E7A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59F2-CF32-42F2-98D0-51C8BFBB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E46F-5437-4657-8FDD-84778CC0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5FC7-7BCB-4199-82CF-406302A6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F28A-F988-4747-969B-81F64D8E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AA7A-1DAC-48B2-87B1-5EA3BDC8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365F-B637-4FF3-9A56-5EB25405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C1CE-1D0C-4725-88C8-CE51B250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25F2-2A94-4F90-BA10-FB289198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2AFC-1041-4BE6-B908-8E3DBEDA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E51D-FB83-4A98-AA12-8ED42057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2115-0E16-429C-9FB0-4B58BEB9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C12C-0F67-4028-BA53-4CD91029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401A-215F-4646-B0C2-53B02002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1F73-341D-4016-B4FC-869ED9A2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89E2-516E-4A6D-93FF-47C0B1A9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BD3A-9D6C-4C57-906E-7C42717B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2846-F8EB-4ECD-9551-9EF67F7D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F63A-A305-492A-BE3A-9225C79D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58E6-881C-48E1-8AFB-71A08A4726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44CE-F159-4A8E-8D64-ACE0A5F3B1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al Cord and Ner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New Image"/>
          <p:cNvPicPr/>
          <p:nvPr/>
        </p:nvPicPr>
        <p:blipFill>
          <a:blip r:embed="rId1"/>
          <a:stretch/>
        </p:blipFill>
        <p:spPr>
          <a:xfrm>
            <a:off x="3429000" y="228600"/>
            <a:ext cx="2122560" cy="292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6172200" y="1828800"/>
            <a:ext cx="259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33"/>
                </a:solidFill>
                <a:latin typeface="Arial"/>
              </a:rPr>
              <a:t>Gross Structure of Inferior End of Spinal C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5"/>
          <p:cNvGraphicFramePr/>
          <p:nvPr/>
        </p:nvGraphicFramePr>
        <p:xfrm>
          <a:off x="-152280" y="0"/>
          <a:ext cx="5483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0"/>
                    <a:ext cx="5483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62520" y="2819160"/>
            <a:ext cx="50292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pinal Cord Seg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6" descr="showimage"/>
          <p:cNvPicPr/>
          <p:nvPr/>
        </p:nvPicPr>
        <p:blipFill>
          <a:blip r:embed="rId1"/>
          <a:stretch/>
        </p:blipFill>
        <p:spPr>
          <a:xfrm>
            <a:off x="304920" y="0"/>
            <a:ext cx="353376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579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ninges of Spinal Cord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 mater (superfi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al dural sh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attach to 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ural sp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 and v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dura mater and verte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dural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tween dura mater and arachnoi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3" descr="showimage"/>
          <p:cNvPicPr/>
          <p:nvPr/>
        </p:nvPicPr>
        <p:blipFill>
          <a:blip r:embed="rId1"/>
          <a:stretch/>
        </p:blipFill>
        <p:spPr>
          <a:xfrm>
            <a:off x="609480" y="2209680"/>
            <a:ext cx="3810240" cy="2819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ninges of Spinal Cord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chnoid mater (midd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rmeable layer =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d off pia mater by root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arachnoid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arachnoid and pia m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C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a mater (de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vas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heres to brain/spinal cor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showimage"/>
          <p:cNvPicPr/>
          <p:nvPr/>
        </p:nvPicPr>
        <p:blipFill>
          <a:blip r:embed="rId1"/>
          <a:stretch/>
        </p:blipFill>
        <p:spPr>
          <a:xfrm>
            <a:off x="609480" y="2438280"/>
            <a:ext cx="3810240" cy="2819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85840" y="2775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gions of Spinal Cor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v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rac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c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ccyg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vical + Lumbar enlar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da equ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us medul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um term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showimage"/>
          <p:cNvPicPr/>
          <p:nvPr/>
        </p:nvPicPr>
        <p:blipFill>
          <a:blip r:embed="rId1"/>
          <a:stretch/>
        </p:blipFill>
        <p:spPr>
          <a:xfrm>
            <a:off x="152280" y="228600"/>
            <a:ext cx="3637080" cy="6629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y Ma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 neuron cell bodies, unmyelinated axons, dendrites, and neuro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ed like an “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y commissure (crossba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ntral ca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ho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ho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showimage"/>
          <p:cNvPicPr/>
          <p:nvPr/>
        </p:nvPicPr>
        <p:blipFill>
          <a:blip r:embed="rId1"/>
          <a:stretch/>
        </p:blipFill>
        <p:spPr>
          <a:xfrm>
            <a:off x="914400" y="2063880"/>
            <a:ext cx="3809880" cy="3601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y Ma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erior ho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 of interneurons that transmit in from outside spinal cord into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rsal root contain sensory f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omatic Sensory (S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sceral Sensory (V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rsal root ganglia - swelling in dorsal root that these interneurons pass throu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erior ho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bodies of motor neurons send info out of spinal cord to muscles and g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Ventral Root contains Motor F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sceral Mo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omatic Mo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1" descr="showimage"/>
          <p:cNvPicPr/>
          <p:nvPr/>
        </p:nvPicPr>
        <p:blipFill>
          <a:blip r:embed="rId1"/>
          <a:stretch/>
        </p:blipFill>
        <p:spPr>
          <a:xfrm>
            <a:off x="4267080" y="380880"/>
            <a:ext cx="3124440" cy="295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ite Ma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8769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rounds gray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myelinated and unmyelinated ax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white columns (funicu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sterior funicul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terior funicul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teral funicul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for communication betw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s of the spinal cor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inal cord and br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showimage"/>
          <p:cNvPicPr/>
          <p:nvPr/>
        </p:nvPicPr>
        <p:blipFill>
          <a:blip r:embed="rId1"/>
          <a:stretch/>
        </p:blipFill>
        <p:spPr>
          <a:xfrm>
            <a:off x="914400" y="2063880"/>
            <a:ext cx="3809880" cy="3601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0" y="2775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ite Ma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19360" y="1676520"/>
            <a:ext cx="4724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types of nerve fib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c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rry sensory info from sensory neurons of body to bra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uch, pressure, pain, temperat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rry motor instructions from brain to spinal cor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traction of muscles and secretion of gland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trol precise, skilled movement = writing, maintain balance, create mov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ss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ross from one side of cord to the ot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9" descr="SpinalCord01"/>
          <p:cNvPicPr/>
          <p:nvPr/>
        </p:nvPicPr>
        <p:blipFill>
          <a:blip r:embed="rId1"/>
          <a:stretch/>
        </p:blipFill>
        <p:spPr>
          <a:xfrm>
            <a:off x="304920" y="2362320"/>
            <a:ext cx="4190760" cy="324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pinal Nerves (31 Pairs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81480" y="1752120"/>
            <a:ext cx="3657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of the PNS (Somat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e in intervertebral for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lateral branches to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d according to their point of issue from the vertebral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pairs of cervical spinal nerves;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pairs of thoracic spinal nerves;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pairs of lumbar spinal nerves; 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pairs of sacral spinal nerves;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pair of coccygeal spinal nerves;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showimage"/>
          <p:cNvPicPr/>
          <p:nvPr/>
        </p:nvPicPr>
        <p:blipFill>
          <a:blip r:embed="rId1"/>
          <a:stretch/>
        </p:blipFill>
        <p:spPr>
          <a:xfrm>
            <a:off x="304920" y="1905120"/>
            <a:ext cx="472428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Nervous Syst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es the activity of muscles, organs, senses, and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up of nervous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3 main 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Receives sensory In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Integ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Dictates motor out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i_01_cr_fon_1b"/>
          <p:cNvPicPr/>
          <p:nvPr/>
        </p:nvPicPr>
        <p:blipFill>
          <a:blip r:embed="rId1"/>
          <a:stretch/>
        </p:blipFill>
        <p:spPr>
          <a:xfrm>
            <a:off x="5791320" y="3124080"/>
            <a:ext cx="3047760" cy="2792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pinal Ner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pinal nerve connected to spinal cord via dorsal (sensory) and ventral (motor)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al nerves branch into dorsal ramus and ventral ra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tral ramu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nects to rami communicates, which then lead to sympathetic chain gangl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pply anterior and lateral regions of the neck, trunk, and limb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rsal ram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pply the dorsum of the neck and trunk (back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showimage"/>
          <p:cNvPicPr/>
          <p:nvPr/>
        </p:nvPicPr>
        <p:blipFill>
          <a:blip r:embed="rId1"/>
          <a:stretch/>
        </p:blipFill>
        <p:spPr>
          <a:xfrm>
            <a:off x="4876920" y="3322800"/>
            <a:ext cx="3809880" cy="3031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1" descr="showimage"/>
          <p:cNvPicPr/>
          <p:nvPr/>
        </p:nvPicPr>
        <p:blipFill>
          <a:blip r:embed="rId1"/>
          <a:stretch/>
        </p:blipFill>
        <p:spPr>
          <a:xfrm>
            <a:off x="914400" y="2144880"/>
            <a:ext cx="3809880" cy="3441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3809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Big Pictu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66920" y="1523520"/>
            <a:ext cx="304812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lateral to intervertebral foramen, each spinal nerve then splits i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Dorsal R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Arial"/>
              </a:rPr>
              <a:t>Ventral R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BOTH Sensory and Motor fibers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819520" y="3809880"/>
            <a:ext cx="1523880" cy="9144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7"/>
          <p:cNvSpPr/>
          <p:nvPr/>
        </p:nvSpPr>
        <p:spPr>
          <a:xfrm flipV="1">
            <a:off x="3505320" y="4114440"/>
            <a:ext cx="289548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3352320" y="4495680"/>
            <a:ext cx="297180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9"/>
          <p:cNvSpPr/>
          <p:nvPr/>
        </p:nvSpPr>
        <p:spPr>
          <a:xfrm flipH="1">
            <a:off x="3581280" y="1905120"/>
            <a:ext cx="236232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fg076_2_2"/>
          <p:cNvPicPr/>
          <p:nvPr/>
        </p:nvPicPr>
        <p:blipFill>
          <a:blip r:embed="rId1"/>
          <a:stretch/>
        </p:blipFill>
        <p:spPr>
          <a:xfrm>
            <a:off x="990720" y="1295280"/>
            <a:ext cx="6581520" cy="501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Text Box 6"/>
          <p:cNvSpPr/>
          <p:nvPr/>
        </p:nvSpPr>
        <p:spPr>
          <a:xfrm>
            <a:off x="2590920" y="304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It All Togeth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New Image"/>
          <p:cNvPicPr/>
          <p:nvPr/>
        </p:nvPicPr>
        <p:blipFill>
          <a:blip r:embed="rId1"/>
          <a:stretch/>
        </p:blipFill>
        <p:spPr>
          <a:xfrm>
            <a:off x="838080" y="1143000"/>
            <a:ext cx="7543800" cy="5419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1" name="Text Box 3"/>
          <p:cNvSpPr/>
          <p:nvPr/>
        </p:nvSpPr>
        <p:spPr>
          <a:xfrm>
            <a:off x="838080" y="304920"/>
            <a:ext cx="73152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nomic Nervous System = Visceral 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tonomic Nervous Syst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Visceral Mo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easily controlled by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et nervous and swe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nervate smooth muscle,  cardiac muscle,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e visceral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art rate, blood pressure, digestion, ur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2 divi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sympathe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mpathe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asympath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body to unwind and calm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active when body at 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ine maintenance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aniosacral div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bers emerge from brain and sacral spinal cor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mpath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ght or fligh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bilizes the body during extreme situ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comes active when extra metabolic effort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oracolumbar div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bers arise from thoracic and lumbar parts of spinal cor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tonomic Division of P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8" name="Picture 3" descr="showimage"/>
          <p:cNvPicPr/>
          <p:nvPr/>
        </p:nvPicPr>
        <p:blipFill>
          <a:blip r:embed="rId1"/>
          <a:stretch/>
        </p:blipFill>
        <p:spPr>
          <a:xfrm>
            <a:off x="1752480" y="1295280"/>
            <a:ext cx="4740480" cy="5257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arasympathetic Innerva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0" name="Picture 3" descr="showimage"/>
          <p:cNvPicPr/>
          <p:nvPr/>
        </p:nvPicPr>
        <p:blipFill>
          <a:blip r:embed="rId1"/>
          <a:stretch/>
        </p:blipFill>
        <p:spPr>
          <a:xfrm>
            <a:off x="1600200" y="504720"/>
            <a:ext cx="5572080" cy="6353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7" descr="I10-13-nerves2"/>
          <p:cNvPicPr/>
          <p:nvPr/>
        </p:nvPicPr>
        <p:blipFill>
          <a:blip r:embed="rId1"/>
          <a:stretch/>
        </p:blipFill>
        <p:spPr>
          <a:xfrm>
            <a:off x="1676520" y="1295280"/>
            <a:ext cx="6191280" cy="35719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matic Nervous Syst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3047760"/>
            <a:ext cx="7620120" cy="3429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vates skeletal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ns runs from CNS directly to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single neuron plus skeletal muscle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nning, moving limbs, typing on a compute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ervous System Over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5" name="Picture 6" descr="showimage"/>
          <p:cNvPicPr/>
          <p:nvPr/>
        </p:nvPicPr>
        <p:blipFill>
          <a:blip r:embed="rId1"/>
          <a:stretch/>
        </p:blipFill>
        <p:spPr>
          <a:xfrm>
            <a:off x="1219320" y="1143000"/>
            <a:ext cx="6933960" cy="5516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visions of the Nervous Syst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715000" cy="4876920"/>
          </a:xfrm>
          <a:prstGeom prst="rect">
            <a:avLst/>
          </a:prstGeom>
          <a:solidFill>
            <a:srgbClr val="ffffe1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Nervous System (C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in and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pinal co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prets incoming sensory sig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ctates motor respon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pheral Nervous System (P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ngl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er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anial nerves and spinal ner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ion between regions of body and C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showimage"/>
          <p:cNvPicPr/>
          <p:nvPr/>
        </p:nvPicPr>
        <p:blipFill>
          <a:blip r:embed="rId1"/>
          <a:stretch/>
        </p:blipFill>
        <p:spPr>
          <a:xfrm>
            <a:off x="5740560" y="1752480"/>
            <a:ext cx="3403440" cy="4038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353520"/>
            <a:ext cx="6324480" cy="762120"/>
          </a:xfrm>
          <a:prstGeom prst="rect">
            <a:avLst/>
          </a:prstGeom>
          <a:noFill/>
          <a:ln w="9360">
            <a:solidFill>
              <a:srgbClr val="330033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 of Nervous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276720" cy="4190760"/>
          </a:xfrm>
          <a:prstGeom prst="rect">
            <a:avLst/>
          </a:prstGeom>
          <a:noFill/>
          <a:ln w="9360">
            <a:solidFill>
              <a:srgbClr val="3300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ll bo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ndr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x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yelin Sheat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u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lex Ar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a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neuron_parts"/>
          <p:cNvPicPr/>
          <p:nvPr/>
        </p:nvPicPr>
        <p:blipFill>
          <a:blip r:embed="rId1"/>
          <a:stretch/>
        </p:blipFill>
        <p:spPr>
          <a:xfrm>
            <a:off x="5029200" y="2057400"/>
            <a:ext cx="271476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rganization of a Nerv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5181480" cy="55627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neu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rrounds each axon (nerve fib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yelinated and Unmyelinated ax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tor and Sensory nerve fi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se 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neu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ndles axons into fascic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neur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ndles fascicles into a ner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brous 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 layers contain blood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nerve_structure"/>
          <p:cNvPicPr/>
          <p:nvPr/>
        </p:nvPicPr>
        <p:blipFill>
          <a:blip r:embed="rId1"/>
          <a:stretch/>
        </p:blipFill>
        <p:spPr>
          <a:xfrm>
            <a:off x="4800600" y="2230560"/>
            <a:ext cx="4343400" cy="2570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ypes of Nerve Signals/Fib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y (affer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cked up by sensory receptors thru bo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ried by nerve fibers of PNS into C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 (effer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ried away from the CNS by nerve fibers into P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nervate muscles and gla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uses these organs to contract or secr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: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Sensory and Motor Signals/Fiber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atic sens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ody sens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uch, pressure, temperature, vibration of body, muscles stretching, bala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ceral sens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rgan sens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retch, pain, temperature in orga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eg) nausea, hunger, cram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atic mo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ody mov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oluntary contraction of skeletal musc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ceral mo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rgan mov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traction of smooth muscle, glan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 Autonomic Nervous System (involuntary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New Image"/>
          <p:cNvPicPr/>
          <p:nvPr/>
        </p:nvPicPr>
        <p:blipFill>
          <a:blip r:embed="rId1"/>
          <a:stretch/>
        </p:blipFill>
        <p:spPr>
          <a:xfrm>
            <a:off x="0" y="0"/>
            <a:ext cx="9086760" cy="65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9000" y="22824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NS – Spinal Cor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8120" y="1600200"/>
            <a:ext cx="5790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through vertebral canal of the vertebral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ed by bone, meninges, and cerebrospinal 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nal cord made of a core of 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</a:rPr>
              <a:t>gray mat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rrounded by 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</a:rPr>
              <a:t>white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pairs of spinal nerves branch off spinal cord through intervertebral for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in many wa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olved in sensory and motor innervation of body inferior to the head (through spinal nerv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a 2-way conduction pathway for signals between body and br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 center for reflex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showimage"/>
          <p:cNvPicPr/>
          <p:nvPr/>
        </p:nvPicPr>
        <p:blipFill>
          <a:blip r:embed="rId1"/>
          <a:stretch/>
        </p:blipFill>
        <p:spPr>
          <a:xfrm>
            <a:off x="0" y="1066680"/>
            <a:ext cx="2968560" cy="541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9:43:04Z</dcterms:created>
  <dc:creator>Heather Townsend</dc:creator>
  <dc:description/>
  <dc:language>en-US</dc:language>
  <cp:lastModifiedBy>Sherry Zinn</cp:lastModifiedBy>
  <dcterms:modified xsi:type="dcterms:W3CDTF">2008-10-27T23:10:55Z</dcterms:modified>
  <cp:revision>55</cp:revision>
  <dc:subject/>
  <dc:title>Slide 1</dc:title>
</cp:coreProperties>
</file>